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rumroll.wav" ContentType="audio/x-wav"/>
  <Override PartName="/ppt/media/applause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D48-18CA-4AB1-9556-134DE658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C55C-F63C-4754-B162-C0AB3C9B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D60-F1CF-4B8E-B8D2-916AF0A2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D7F-3E67-4F42-94F4-8777543F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BE7-5EBC-4FD7-A1C1-8C659FB3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EA5-F13F-4413-BED6-3B40D1D7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183-7BDB-4A0B-A57C-54D9BBF9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5DE-E79C-42C1-8ABE-EFBDE113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344-9272-4C8E-A282-2D98A825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7CE-A9DC-406E-8371-CBDC1771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D28-AD13-46E1-99F9-923AEFC9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61F-D0E0-4B24-9DE1-F26FFEE1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5B06-DFE1-4A54-9606-CDEC0F120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CL Vaidehi"/>
              </a:rPr>
              <a:t>jkpH; bkhHpapd; eil mHfpay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5867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CL Vaidehi"/>
              </a:rPr>
              <a:t>khu;f;rpaj; jpwdha;thsu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2514600" y="4648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CL Vaidehi"/>
              </a:rPr>
              <a:t>nguh/jp/R/eluhrd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                      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MCL Vaidehi"/>
              </a:rPr>
              <a:t>bjhlupay; nghf;Ffs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xypf;nfhyk;. brhy;tsk;. brhw;bwhlu;. mikg;g[ ,it K:d;Wk; bkhHpbaDk; gapu; tsu Vu; elj;jpg; gz;gLj;Jfpd;wd vd;why;. bjhlupay; totnkh ghj;jpf; fl;o tug;g[ cau;j;jp mk;bkhHpapid tsg;gLj;JfpwJ/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 2/</a:t>
            </a: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jkpH; bkhHpapy; ? </a:t>
            </a: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vGtha; + brag;gLbghUs; + gadpi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(fz;zd; g[j;jfj;ijg; goj;jhd;) ? </a:t>
            </a: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vd;W tUtnj kug[/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Mdhy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r’;fg;ghly;fs; gytw;wpy; ,J khwp tUfpwJ/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,jw;Ff; **</a:t>
            </a: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ftpij kWjiyj; bjhlu</a:t>
            </a: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;** vd;W bgau;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Kjypy; xU bjhliug; ghu;g;nghk;/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**eL’;FJk; gphptpd; ahk; fLk;gdp ciHe;nj**</a:t>
            </a: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 ? ,j;bjhlu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ahk; gphptpd; fLk;gdp cwH;e;nj eL’;FJk</a:t>
            </a: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; vd;wpUj;jy; ntz;Lk;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 ,g;nghJ xU ghliyg; ghu;g;nghk; ? g[wk; ? 239 Mk; ghly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 ek;gp beL”;brHpadpd; rht[r; rl’;F Fwpj;Jg; ngbuapy; KWtyhu; ghoaJ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MCL Vaidehi"/>
              </a:rPr>
              <a:t>ghly;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1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bjhoa[ila     njhs; kze;jdd;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2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fofhtpw;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  g{r;R{od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3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jz;fkG”;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  rhe;J ePtpd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4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brw;nwhiu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  tHpjg[j;jd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5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el;nlhiu 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  cau;g[ Twpd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6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typabud 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  tHp bkhHpay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7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bkypabud      kPf;Twy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8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gpwiuj;jhd;     ,ug;gwpay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9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,we;njhu;f;F     kWg;gwpay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10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nte;Jil 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  mitaj;J X’;Fg[fH; njhw;wpd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11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tUgil 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  vjpu;jh’;fpd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12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bgah;gil       g[w’;fz;ld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13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fLk;gupa 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  khf;fltpd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14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beLe;bjUtpy;  nju;tH’;fpd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15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X’;F,ay 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  fspW Cu;e;jdd;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16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jP”;brwpjRk;g[    bjhiyr;rpd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17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ghz;ctg;gg;     grp jPu;j;jd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18/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kaf;Fila       bkhHp tpLj;jdd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MCL Vaidehi"/>
              </a:rPr>
              <a:t>M’;Fr; bra;g vy;yhk; bra;jdd; Mfypd;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MCL Vaidehi"/>
              </a:rPr>
              <a:t>                           ,Lf xd;nwh RLf xd;nwh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MCL Vaidehi"/>
              </a:rPr>
              <a:t>                           gLtHpg; gLf,g; g[fH; bta;nahd; jiyna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bghUs; - ek;gp beL”;brHpad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mwk;. bghUs;. ,d;gk; vd;w K:d;wpYk; bra;a ntz;oatw;iw vy;yhk; bra;jhd; vd;gij 18 gz;g[fspd; tHpna tupirg; gLj;jpa gpwF bjhFj;Jr; brhy;tJ ngh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CL Vaidehi"/>
              </a:rPr>
              <a:t>nghlh ngh  ? g[ijj;jhy; g[ij. Rl;lhy; RL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vd;W Kj;jha;g;gha; KofpwJ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91320" y="45684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MCL Vaidehi"/>
              </a:rPr>
              <a:t>ed;w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1"/>
          <p:cNvSpPr/>
          <p:nvPr/>
        </p:nvSpPr>
        <p:spPr>
          <a:xfrm>
            <a:off x="5257800" y="274320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MCL Vaidehi"/>
              </a:rPr>
              <a:t>tzf;fk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380880" y="44956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MCL Vaidehi"/>
              </a:rPr>
              <a:t>bjhFj;J tH’;fpat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5413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CL Vaidehi"/>
                <a:ea typeface="Calibri"/>
              </a:rPr>
              <a:t>                                       </a:t>
            </a:r>
            <a:r>
              <a:rPr b="0" i="1" lang="en-US" sz="2800" spc="-1" strike="noStrike">
                <a:solidFill>
                  <a:srgbClr val="ffff00"/>
                </a:solidFill>
                <a:latin typeface="MCL Vaidehi"/>
                <a:ea typeface="Calibri"/>
              </a:rPr>
              <a:t>nfh/Re;ju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MCL Vaidehi"/>
                <a:ea typeface="Calibri"/>
              </a:rPr>
              <a:t>                      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MCL Vaidehi"/>
                <a:ea typeface="Calibri"/>
              </a:rPr>
              <a:t>KJfiyj; jkpH; Mrphpau;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684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CL Vaidehi"/>
              </a:rPr>
              <a:t>jkpHpy; khu;f;rpaj; jpwdha;t[f;F mog;gilfis cUthf;fpj; je;j thdkhkiyapd; Ma;t[ tl;lj;jpy; gapw;rp bgw;wtu;/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MCL Vaidehi"/>
              </a:rPr>
              <a:t>gpwe;j ,lk;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:- </a:t>
            </a:r>
            <a:r>
              <a:rPr b="1" lang="en-US" sz="2200" spc="-1" strike="noStrike">
                <a:solidFill>
                  <a:srgbClr val="000000"/>
                </a:solidFill>
                <a:latin typeface="MCL Vaidehi"/>
                <a:ea typeface="Arial"/>
              </a:rPr>
              <a:t>tpUJefu; khtl;lk;. jpUj;j’;fy;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MCL Vaidehi"/>
                <a:ea typeface="Arial"/>
              </a:rPr>
              <a:t>gjtp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: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MCL Vaidehi"/>
                <a:ea typeface="Arial"/>
              </a:rPr>
              <a:t>rhfpj;jpa mfhjkp ? 6 Mz;Lfs; (bghJf;FG cWg;gpdh;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CL Vaidehi"/>
                <a:ea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MCL Vaidehi"/>
                <a:ea typeface="Arial"/>
              </a:rPr>
              <a:t>jkpH;ehL fiy ,yf;fpag; bgUkd;wj;jpd; ,yf;fp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CL Vaidehi"/>
                <a:ea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MCL Vaidehi"/>
                <a:ea typeface="Arial"/>
              </a:rPr>
              <a:t>gzpfspy; bjhlh;e;J g’;fhw;wp  tUfpwhh;/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CL Vaidehi"/>
                <a:ea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MCL Vaidehi"/>
                <a:ea typeface="Arial"/>
              </a:rPr>
              <a:t>*kfhejp* ? Mrphpau; FG (,yf;fpar; rpw;wpjH;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CL Vaidehi"/>
                <a:ea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MCL Vaidehi"/>
                <a:ea typeface="Arial"/>
              </a:rPr>
              <a:t>*fhe;js;* ? Mrphpah; bghWg;g[ (jpwdha;t[r; rpw;wpjH;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CL Vaidehi"/>
                <a:ea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MCL Vaidehi"/>
                <a:ea typeface="Arial"/>
              </a:rPr>
              <a:t>rK:f tp”;”hdk; ? Mrphpau; F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684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MCL Vaidehi"/>
              </a:rPr>
              <a:t>Muha;r;rp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: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MCL Vaidehi"/>
                <a:ea typeface="Arial"/>
              </a:rPr>
              <a:t>*ftpijapay; bfhs;if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CL Vaidehi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CL Vaidehi"/>
                <a:ea typeface="Arial"/>
              </a:rPr>
              <a:t>bewpahsu; ? nguh/bkh/m/ Jiwau’;fdhu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CL Vaidehi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CL Vaidehi"/>
                <a:ea typeface="Arial"/>
              </a:rPr>
              <a:t>Jiznte;ju; ? bj/bgh/k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MCL Vaidehi"/>
                <a:ea typeface="Arial"/>
              </a:rPr>
              <a:t>E}y;fs;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:-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MCL Vaidehi"/>
                <a:ea typeface="Arial"/>
              </a:rPr>
              <a:t>jkpH; mHfpay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NCBH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MCL Vaidehi"/>
                <a:ea typeface="Arial"/>
              </a:rPr>
              <a:t>jpwdha;t[f; fi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CBH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MCL Vaidehi"/>
                <a:ea typeface="Arial"/>
              </a:rPr>
              <a:t>ftpijbaDk; bkhH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CL Vaidehi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MCL Vaidehi"/>
                <a:ea typeface="Arial"/>
              </a:rPr>
              <a:t>jkpHpd; gz;ghl;L btspf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CL Vaidehi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MCL Vaidehi"/>
                <a:ea typeface="Arial"/>
              </a:rPr>
              <a:t>ciufSk; ciuahrpupau;fSk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MCL Vaidehi"/>
                <a:ea typeface="Arial"/>
              </a:rPr>
              <a:t>rhfpj;jpa mfhjkp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:-</a:t>
            </a:r>
            <a:r>
              <a:rPr b="1" lang="en-US" sz="2400" spc="-1" strike="noStrike">
                <a:solidFill>
                  <a:srgbClr val="000000"/>
                </a:solidFill>
                <a:latin typeface="MCL Vaidehi"/>
                <a:ea typeface="Arial"/>
              </a:rPr>
              <a:t>  jkpHpy; jpwdha;t[g; gDty;f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CL Vaidehi"/>
                <a:ea typeface="Arial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MCL Vaidehi"/>
                <a:ea typeface="Arial"/>
              </a:rPr>
              <a:t>jkpH; ,yf;fpa tuyh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684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MCL Vaidehi"/>
              </a:rPr>
              <a:t>bjhlf;fk;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:-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MCL Vaideh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MCL Vaidehi"/>
              </a:rPr>
              <a:t>mHF gz;ghl;od; cr;rk;. v’;Fk; cs;sJ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1/  jkpH; mHfpay; ? jkpHpd; mHF gw;wpa nfhl;gh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2/  mHfpay; jkpGf;F kl;Lnk cupajy;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fpnuf;f mHfpay; ? mup!;lhl;oy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(Poetics </a:t>
            </a: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? mHfpay; gw;wpa Kjy; E}y;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rk!;fpUj mHfpay; ? Mee;jtu;j;jdu;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3/  jkpH; mHfpay; ? fl;likf;f. bjhy;fhg;gpak; + r’;f ,yf;fpa’;f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mog;gil Mjhu’;fshFk;/  (bra;a[spay; jhd; mog;gi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4/  mHfpd; ,yf;fzk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bghUspd; &lt;u;g;g[ + fhz;gtupd; czh;t[ ,ize;jnj mHF ? vd;fpwhu;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(jpUf;nfhitahu; ciuahrphpau;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5/   m) Mde;j FkhuRthkp ? fiyfspd; mHifg; nghw;wpat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M) bj/bgh/kP/ ? mHfpaiyj; jj;Jt mog;gilapy; fl;likj;jt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MCL Vaidehi"/>
              </a:rPr>
              <a:t>,)  o/ nf/rp ? ftpijfspd; mHifg; nghw;wpatu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CL Vaidehi"/>
              </a:rPr>
              <a:t>                       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MCL Vaidehi"/>
              </a:rPr>
              <a:t>                       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MCL Vaidehi"/>
              </a:rPr>
              <a:t>mH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MCL Vaidehi"/>
              </a:rPr>
              <a:t>(brhy;tsk;)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ftpd;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bghUe;jpf; fplf;Fk; mHF//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vHpy; 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?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vGr;rp bgw;w njhw;wk;. cah;r;rp cilaJ/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tdg;g[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?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,aw;ifapd; brGiknahL ToaJ/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eyk; 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?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to eyk; (I’;?475) khz; eyk; (I’; 258. 458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jpU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?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fz;nlhuhy; tpUk;gg;gLk; jd;ik. nehf;fk;. 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epiwthdJ. bry;tkhf ,Ug;gJ/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mzp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?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mHFf;F mHF bra;tJ. mQqFtjw;F VJthf 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,Ug;gJ/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Vu; 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?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vGfpd;w brayplj;nj njhd;WtJ. ciHg;nghL 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cwt[ilaJ/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mHF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?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mHfikg[id tpid (fypj;?59) r’;f ,yf;fpaj;jpy; 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CL Vaidehi"/>
              </a:rPr>
              <a:t>rpy ,l’;fspnyna fhzg;gLfpwJ/ 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CL Vaidehi"/>
              </a:rPr>
              <a:t>mHfpd; Mw;wy; gilg;ghFk; </a:t>
            </a:r>
            <a:r>
              <a:rPr b="1" lang="en-US" sz="1600" spc="-1" strike="noStrike">
                <a:solidFill>
                  <a:srgbClr val="0000ff"/>
                </a:solidFill>
                <a:latin typeface="MCL Vaidehi"/>
              </a:rPr>
              <a:t>(gilg;g[fs; 64 Mafiyfs;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CL Vaidehi"/>
              </a:rPr>
              <a:t>kw;iwa fiyfis tpl ftpijf; fiyna rpwg;ghdjhFk;/</a:t>
            </a:r>
            <a:br>
              <a:rPr sz="1600"/>
            </a:b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MCL Vaidehi"/>
              </a:rPr>
              <a:t>** ftpijna fiyfspd; kFlk; ** 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CL Vaidehi"/>
              </a:rPr>
              <a:t>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MCL Vaidehi"/>
              </a:rPr>
              <a:t>xypg; gpd;dy;fs; 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MCL Vaidehi"/>
              </a:rPr>
              <a:t>ty;ypdk;</a:t>
            </a:r>
            <a:r>
              <a:rPr b="0" lang="en-US" sz="2400" spc="-1" strike="noStrike">
                <a:solidFill>
                  <a:srgbClr val="ff0000"/>
                </a:solidFill>
                <a:latin typeface="MCL Vaideh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? </a:t>
            </a:r>
            <a:r>
              <a:rPr b="0" lang="en-US" sz="2400" spc="-1" strike="noStrike">
                <a:solidFill>
                  <a:srgbClr val="0000ff"/>
                </a:solidFill>
                <a:latin typeface="MCL Vaidehi"/>
              </a:rPr>
              <a:t>f r l j g w </a:t>
            </a: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? </a:t>
            </a: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td;ikahd czu;t[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fLe;jL jhid K:tpU’;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cld;wdpu; MapDk; gwk;g[ bfhsw;fupnj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Ke;E}W Cu;j;nj jz;gwk;g[ ed;dh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Ke;E}W CUk; guprpyu; bgw;wdu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ahKk; ghupa[k; csn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Fd;Wk; cz;LePu; ghodPu; brypnd </a:t>
            </a: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fgpyu; ? g[wk;/11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 f  r  l  j  g  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5   2  7  6  8  9  ?  37 ty;byGj;Jfs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 Fws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fw;f frlwf; fw;git fw;wgpd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epw;f mjw;Fj; jf</a:t>
            </a: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CL Vaidehi"/>
              </a:rPr>
              <a:t>23-27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CL Vaidehi"/>
              </a:rPr>
              <a:t>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MCL Vaidehi"/>
              </a:rPr>
              <a:t>czh;t[</a:t>
            </a:r>
            <a:br>
              <a:rPr sz="2400"/>
            </a:b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MCL Vaidehi"/>
              </a:rPr>
              <a:t>bky;ypdk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MCL Vaidehi"/>
              </a:rPr>
              <a:t>?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MCL Vaidehi"/>
              </a:rPr>
              <a:t>‘”zek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MCL Vaidehi"/>
              </a:rPr>
              <a:t>? bkd;ik ? ,uf;fk;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nehbkd; bd”;nr nehbkd; bd”;n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,ikjPa;g; gd;d fz;zPh; jh’;f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mikjw; fike;j e’;fhjyu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miktpyu; MFjy; nehbkd; bd”;nr 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( FW ? 4 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neh(F)k;. vd;. be”;R. mik ? 4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 3 = 12 Ki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(jiytpapd; Jauj;ijf; fhl;LfpwJ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g”;rpbahspu; tp”;RFspu; gy;yt kD’;f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br”;brtpa f”;repkpu; rPwoa shf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m”;brhyp k”;irbad md;dbkd kpd;Dk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t”;rpbad e”;rbkd t”;rkfs; te;jhs;/    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MCL Vaidehi"/>
              </a:rPr>
              <a:t> </a:t>
            </a:r>
            <a:br>
              <a:rPr sz="2000"/>
            </a:b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MCL Vaidehi"/>
              </a:rPr>
              <a:t>capu; xypfs; + beoy; xypfs; 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? miHg;g[ ,uf;fk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glhmk; &lt;j;j bflhm ey;ypirf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flhm ahidf; fypkhd; ng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(g[wk; ? 145)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MCL Vaidehi"/>
              </a:rPr>
              <a:t>             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MCL Vaidehi"/>
              </a:rPr>
              <a:t>jpUk;gtuy; jd;ik </a:t>
            </a:r>
            <a:r>
              <a:rPr b="1" i="1" lang="en-US" sz="2000" spc="-1" strike="noStrike">
                <a:solidFill>
                  <a:srgbClr val="0000ff"/>
                </a:solidFill>
                <a:latin typeface="MCL Vaidehi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MCL Vaidehi"/>
              </a:rPr>
              <a:t>xypfSk; brhw;fSk;)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1) g[zupd; g[zuhJ bghUns ; bghUs;tap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  gphpapd; g[zuhJ g[zu;nt 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(ew;?16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2) Ee;ij je;ijf;F ,td;je;ij je;ij  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(g[w?290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3) vj;jpirr; brypDk; mj;jpirr; nrhnw 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(xsi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4) kz;jpzpe;j epyDk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   epynde;jpa tpRk;g[k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   tpRk;g[ ijtU tspa[k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   tspj; jiy,a jPa[k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   jP Kuzpa ePUk; vd;wh’;F 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(g[wk;?2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MCL Vaidehi"/>
              </a:rPr>
              <a:t>             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MCL Vaidehi"/>
              </a:rPr>
              <a:t>tpl;oirj;jy; </a:t>
            </a:r>
            <a:r>
              <a:rPr b="0" lang="en-US" sz="2000" spc="-1" strike="noStrike">
                <a:solidFill>
                  <a:srgbClr val="ff0000"/>
                </a:solidFill>
                <a:latin typeface="MCL Vaidehi"/>
              </a:rPr>
              <a:t>? </a:t>
            </a:r>
            <a:r>
              <a:rPr b="1" lang="en-US" sz="2000" spc="-1" strike="noStrike">
                <a:solidFill>
                  <a:srgbClr val="0000ff"/>
                </a:solidFill>
                <a:latin typeface="MCL Vaidehi"/>
              </a:rPr>
              <a:t>(4 rPu;fs; bfhz;l ghly;fspy;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KjypU rPu;fs; 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? 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filrp ,U rPu;f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1) 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gy;rhd;wPnu - gy;rhd;wPn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2) 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bjd;fly; tshfk; - bghJik,d;w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,itna ghly;fspd; *</a:t>
            </a:r>
            <a:r>
              <a:rPr b="1" lang="en-US" sz="2000" spc="-1" strike="noStrike">
                <a:solidFill>
                  <a:srgbClr val="000000"/>
                </a:solidFill>
                <a:latin typeface="MCL Vaidehi"/>
              </a:rPr>
              <a:t>xypg;gpd;dy;* </a:t>
            </a: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vd;fpnwhk;/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kfhftp ghuj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Mir jUk; nfho mjpra’;fs; fz;ljp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CL Vaidehi"/>
              </a:rPr>
              <a:t>xir jUk; ,d;gk; ctikapyh ,d;gkd;nw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MCL Vaidehi"/>
              </a:rPr>
              <a:t>    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MCL Vaidehi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MCL Vaidehi"/>
              </a:rPr>
              <a:t>brhw;g[yk; </a:t>
            </a:r>
            <a:br>
              <a:rPr sz="2400"/>
            </a:br>
            <a:r>
              <a:rPr b="1" lang="en-US" sz="1400" spc="-1" strike="noStrike" u="sng">
                <a:solidFill>
                  <a:srgbClr val="0000ff"/>
                </a:solidFill>
                <a:uFillTx/>
                <a:latin typeface="MCL Vaidehi"/>
              </a:rPr>
              <a:t>*vy;yhr; brhy;Yk; bghUs; Fwpj;jdnt*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1/  brhy;ypy; bghUSk; czu;t[k; bghjpe;J ,Uf;F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brhy;ypy; Tlnt fiy. gz;ghL. tuyhW. murpay; Kjypadt[k; bghjpe;J fplf;fpd;wd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rhd;W :-  eLfy;. VW jGt[jy;. tlf;fpUj;j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2/  mjdhy; jhd;. brhy;tsj;ijg; </a:t>
            </a:r>
            <a:r>
              <a:rPr b="0" lang="en-US" sz="1400" spc="-1" strike="noStrike">
                <a:solidFill>
                  <a:srgbClr val="0000ff"/>
                </a:solidFill>
                <a:latin typeface="MCL Vaidehi"/>
              </a:rPr>
              <a:t>*</a:t>
            </a:r>
            <a:r>
              <a:rPr b="1" lang="en-US" sz="1400" spc="-1" strike="noStrike">
                <a:solidFill>
                  <a:srgbClr val="0000ff"/>
                </a:solidFill>
                <a:latin typeface="MCL Vaidehi"/>
              </a:rPr>
              <a:t>gz;ghl;od; milahsk</a:t>
            </a:r>
            <a:r>
              <a:rPr b="0" lang="en-US" sz="1400" spc="-1" strike="noStrike">
                <a:solidFill>
                  <a:srgbClr val="0000ff"/>
                </a:solidFill>
                <a:latin typeface="MCL Vaidehi"/>
              </a:rPr>
              <a:t>;* 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vd;gu;/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3/  brhy;tsk; vd;gJ jdpr; brhw;fsha; epiwe;J miktija[k; Fwpf;Fk;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xd;wpw;F nkw;gl;l brhw;fs; ,ize;J miktija[k; Fwpf;Fk;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mjdhy; jhd; bkhHp E}yhu; jkpH; bkhHpia </a:t>
            </a:r>
            <a:r>
              <a:rPr b="1" lang="en-US" sz="1400" spc="-1" strike="noStrike">
                <a:solidFill>
                  <a:srgbClr val="0000ff"/>
                </a:solidFill>
                <a:latin typeface="MCL Vaidehi"/>
              </a:rPr>
              <a:t>xl;L epiy mikg;g</a:t>
            </a:r>
            <a:r>
              <a:rPr b="0" lang="en-US" sz="1400" spc="-1" strike="noStrike">
                <a:solidFill>
                  <a:srgbClr val="0000ff"/>
                </a:solidFill>
                <a:latin typeface="MCL Vaidehi"/>
              </a:rPr>
              <a:t>[ 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bfhz;lJ vd;gu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4/   r’;f ,yf;fpak; brhy;tsk; epiwe;jJ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Fwpg;ghf Mw;Wg;gil E}y;fspy; grpiaf; Fwpf;f gHk;grp. thLgrp. xL’;Fgrp. fHpgrp. vd;w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brhw;fisf; ifahz;Ls;sdu;/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5/   Jiwfisr; rhu;e;j brhw;fs;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m)  Ky;iyf;fyp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MCL Vaidehi"/>
              </a:rPr>
              <a:t>(</a:t>
            </a:r>
            <a:r>
              <a:rPr b="1" i="1" lang="en-US" sz="1400" spc="-1" strike="noStrike" u="sng">
                <a:solidFill>
                  <a:srgbClr val="0000ff"/>
                </a:solidFill>
                <a:uFillTx/>
                <a:latin typeface="MCL Vaidehi"/>
              </a:rPr>
              <a:t>fhis tiffs;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 VW. fhup. br’;fhup. bfhy; VW. ehF. Fuhy;. rptiy. btz;fhw; nra;//////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M)  fp/uh tpd; *fpil* FWehtypy;  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MCL Vaidehi"/>
              </a:rPr>
              <a:t>(xUj;jp. mk;rd;Fkhu; ? jpiug;glk;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1" i="1" lang="en-US" sz="1400" spc="-1" strike="noStrike" u="sng">
                <a:solidFill>
                  <a:srgbClr val="0000ff"/>
                </a:solidFill>
                <a:uFillTx/>
                <a:latin typeface="MCL Vaidehi"/>
              </a:rPr>
              <a:t>(ML tiffs;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 brt;thL. mupahL. bt’;fhyhL. nghu;. fUk; nghu;. brk;nghu;. K:sp. jhyp. Tsp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 fWtp. uhahL. fupirahL. fk;gspahL. Rl;o. fplh. bfhr;irf;fplh ////////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,)  Kf;Tlw; gs;S - kP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mapiu. Muhy;. cGit. bfz;il. bfspW. bfSj;jp. Fwit. kj;jp. tuhy;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CL Vaidehi"/>
              </a:rPr>
              <a:t>    this. jpUf;if. njsp. ghrp kPd;//////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08T14:45:05Z</dcterms:created>
  <dc:creator>BGCC</dc:creator>
  <dc:description/>
  <dc:language>en-US</dc:language>
  <cp:lastModifiedBy>BGCC</cp:lastModifiedBy>
  <dcterms:modified xsi:type="dcterms:W3CDTF">2019-06-09T05:51:40Z</dcterms:modified>
  <cp:revision>67</cp:revision>
  <dc:subject/>
  <dc:title>jkpH; bkhHpapd; eil mHfpay;  jp/R/eluhrd; khu;f;rpaj; jpwdha;thsu;</dc:title>
</cp:coreProperties>
</file>